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D7B1-5CC8-443F-AF7B-4B6C07D50F2B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AC62-B583-47C3-9D48-230CD10DE201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48CE-2C18-47B2-8B4A-A62CA49F0629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75B2-798C-419D-9FB0-B4A0A772169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814B-2A0C-4883-8DB9-53B775EF989C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86C5-E974-4BDC-AA0B-69F0BDDC822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3B86-2894-4517-814F-89668EDDED92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931-F55A-44A1-9F7F-20E7D4983910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D884-699F-43C3-80D9-BA4516231D4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ECA-910F-462C-B61F-0CD1F0E1791D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2DD-CAEF-46E2-9B3C-15C06F3DC115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0069-1C3A-4274-A5AA-685978A0C759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BE1-5326-49CE-BD14-EAFB8D6F7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E573-A5C4-47DD-BF3F-28183510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757B-5976-4286-84F2-9C49E08C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FED-7953-46AB-91D6-70A60BD4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1DA-58B3-4A3C-AC7A-D87D9265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2F5-3C46-4309-9979-D006BD7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54F-B762-4853-8B77-D3560E2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6B74-17BA-4DA6-A3F8-3C7F7C07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EFE-007E-49A6-86DB-F0C27F16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D3CA-F720-4BA8-91A6-9AAC55B5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4FB2-0888-41FA-86EA-1E06E7E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A5D-A4EA-4FD6-84F9-01A3E618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17FE-D71B-43B5-9E11-321B4F521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"/><Relationship Id="rId6" Type="http://schemas.openxmlformats.org/officeDocument/2006/relationships/image" Target="../media/image17.jpeg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image" Target="../media/image18.png"/><Relationship Id="rId11" Type="http://schemas.openxmlformats.org/officeDocument/2006/relationships/slide" Target="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0.jpeg"/><Relationship Id="rId5" Type="http://schemas.openxmlformats.org/officeDocument/2006/relationships/slide" Target=""/><Relationship Id="rId6" Type="http://schemas.openxmlformats.org/officeDocument/2006/relationships/image" Target="../media/image21.jpeg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6.jpeg"/><Relationship Id="rId5" Type="http://schemas.openxmlformats.org/officeDocument/2006/relationships/slide" Target=""/><Relationship Id="rId6" Type="http://schemas.openxmlformats.org/officeDocument/2006/relationships/image" Target="../media/image3.jpeg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image" Target="../media/image24.png"/><Relationship Id="rId11" Type="http://schemas.openxmlformats.org/officeDocument/2006/relationships/slide" Target=""/><Relationship Id="rId12" Type="http://schemas.openxmlformats.org/officeDocument/2006/relationships/image" Target="../media/image25.png"/><Relationship Id="rId13" Type="http://schemas.openxmlformats.org/officeDocument/2006/relationships/slide" Target="slide12.xml"/><Relationship Id="rId14" Type="http://schemas.openxmlformats.org/officeDocument/2006/relationships/slide" Target="slide12.xm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6.jpeg"/><Relationship Id="rId5" Type="http://schemas.openxmlformats.org/officeDocument/2006/relationships/slide" Target=""/><Relationship Id="rId6" Type="http://schemas.openxmlformats.org/officeDocument/2006/relationships/image" Target="../media/image2.jpeg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image" Target="../media/image18.png"/><Relationship Id="rId13" Type="http://schemas.openxmlformats.org/officeDocument/2006/relationships/slide" Target=""/><Relationship Id="rId14" Type="http://schemas.openxmlformats.org/officeDocument/2006/relationships/image" Target="../media/image27.png"/><Relationship Id="rId15" Type="http://schemas.openxmlformats.org/officeDocument/2006/relationships/slide" Target="slide13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8.jpeg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4.xml"/><Relationship Id="rId10" Type="http://schemas.openxmlformats.org/officeDocument/2006/relationships/slide" Target="slide14.xml"/><Relationship Id="rId11" Type="http://schemas.openxmlformats.org/officeDocument/2006/relationships/slide" Target="slide14.xml"/><Relationship Id="rId12" Type="http://schemas.openxmlformats.org/officeDocument/2006/relationships/slide" Target="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" Target="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31.jpeg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"/><Relationship Id="rId9" Type="http://schemas.openxmlformats.org/officeDocument/2006/relationships/image" Target="../media/image32.jpe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21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7.jpeg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5.xml"/><Relationship Id="rId4" Type="http://schemas.openxmlformats.org/officeDocument/2006/relationships/image" Target="../media/image8.jpeg"/><Relationship Id="rId5" Type="http://schemas.openxmlformats.org/officeDocument/2006/relationships/slide" Target="slide5.xml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0.jpeg"/><Relationship Id="rId5" Type="http://schemas.openxmlformats.org/officeDocument/2006/relationships/slide" Target=""/><Relationship Id="rId6" Type="http://schemas.openxmlformats.org/officeDocument/2006/relationships/image" Target="../media/image11.jpeg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slide7.xml"/><Relationship Id="rId4" Type="http://schemas.openxmlformats.org/officeDocument/2006/relationships/image" Target="../media/image12.jpeg"/><Relationship Id="rId5" Type="http://schemas.openxmlformats.org/officeDocument/2006/relationships/slide" Target="slide7.xml"/><Relationship Id="rId6" Type="http://schemas.openxmlformats.org/officeDocument/2006/relationships/slide" Target=""/><Relationship Id="rId7" Type="http://schemas.openxmlformats.org/officeDocument/2006/relationships/image" Target="../media/image13.jpeg"/><Relationship Id="rId8" Type="http://schemas.openxmlformats.org/officeDocument/2006/relationships/slide" Target="slide7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" Target=""/><Relationship Id="rId4" Type="http://schemas.openxmlformats.org/officeDocument/2006/relationships/image" Target="../media/image14.jpeg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 the question carefully and click the picture for the correct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Be careful in choosing because it won’t move to the next slide if you clicked the wrong answer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Good luck. </a:t>
            </a:r>
            <a:r>
              <a:rPr b="0" lang="en-P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ANd9GcSuZJB_TsSrGufBQU4SHmgBhRvJQivWomtpdd0MFML6qLpqYJ3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99072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hild-nurse-costum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248520" y="380880"/>
            <a:ext cx="1433520" cy="4267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1690200" y="39625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HOSP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403320" y="49528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N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897120" y="453240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oes the nurse works in a hospi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0"/>
          <a:stretch/>
        </p:blipFill>
        <p:spPr>
          <a:xfrm>
            <a:off x="139680" y="5084640"/>
            <a:ext cx="2627280" cy="11034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52600" y="5162400"/>
            <a:ext cx="251136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http://ecx.images-amazon.com/images/I/31Rohl1qj-L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14400" y="228600"/>
            <a:ext cx="1924200" cy="47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sasd.k12.pa.us/uploadedImages/MarzolfES/SchoolHouse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81280" y="380880"/>
            <a:ext cx="5050080" cy="4381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373040" y="51055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RI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5571000" y="48006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4874040" y="571500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Does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priest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works in a school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Rectangl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-347760" y="5754600"/>
            <a:ext cx="2676600" cy="110988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11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2444760" y="5735520"/>
            <a:ext cx="26146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ANd9GcSuZJB_TsSrGufBQU4SHmgBhRvJQivWomtpdd0MFML6qLpqYJ3o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0666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images.halloweencostumes.com/toddler-future-doctor-costume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334120" y="685800"/>
            <a:ext cx="3047760" cy="45356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772560" y="449568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Does the docto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r works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in a hospi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7" descr=""/>
          <p:cNvPicPr/>
          <p:nvPr/>
        </p:nvPicPr>
        <p:blipFill>
          <a:blip r:embed="rId10"/>
          <a:stretch/>
        </p:blipFill>
        <p:spPr>
          <a:xfrm>
            <a:off x="152280" y="5105520"/>
            <a:ext cx="2627280" cy="10983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8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5105520"/>
            <a:ext cx="1905120" cy="115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19160" y="36576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57800" y="521820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DO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whoisshmira.files.wordpress.com/2010/09/the-house_burning-crown-heights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3520" y="762120"/>
            <a:ext cx="4511520" cy="281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fireman-costume-for-kids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324480" y="609480"/>
            <a:ext cx="1525680" cy="32004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850680" y="4495680"/>
            <a:ext cx="43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n the fireman help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urning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house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Rectangle 7" descr=""/>
          <p:cNvPicPr/>
          <p:nvPr/>
        </p:nvPicPr>
        <p:blipFill>
          <a:blip r:embed="rId12"/>
          <a:stretch/>
        </p:blipFill>
        <p:spPr>
          <a:xfrm>
            <a:off x="228600" y="5334120"/>
            <a:ext cx="2627280" cy="110304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8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3581280" y="5181480"/>
            <a:ext cx="2210040" cy="979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9"/>
          <p:cNvSpPr/>
          <p:nvPr/>
        </p:nvSpPr>
        <p:spPr>
          <a:xfrm>
            <a:off x="923040" y="373392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BURNING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485040" y="4038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FIRE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http://t3.gstatic.com/images?q=tbn:ANd9GcSyZnpnNbg7wAzERlRwvP0Js0drv4OAEPCwBa8oAI7N5tnBJJVQF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120" y="838080"/>
            <a:ext cx="3352680" cy="34894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1766520" y="44197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ICK K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6485400" y="434340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816120" y="495288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n the farmer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help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the 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sick</a:t>
            </a:r>
            <a:r>
              <a:rPr b="0" lang="en-PH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kid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tangle 9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-189000" y="5383080"/>
            <a:ext cx="2700360" cy="110988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0" descr="">
            <a:hlinkClick r:id="" action="ppaction://hlinkshowjump?jump=nextslide"/>
          </p:cNvPr>
          <p:cNvPicPr/>
          <p:nvPr/>
        </p:nvPicPr>
        <p:blipFill>
          <a:blip r:embed="rId14"/>
          <a:stretch/>
        </p:blipFill>
        <p:spPr>
          <a:xfrm>
            <a:off x="2687760" y="5310360"/>
            <a:ext cx="2597040" cy="114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-!Baby%2520Farmer%2520Costume--227090411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095880" y="990720"/>
            <a:ext cx="22561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228600"/>
            <a:ext cx="2535120" cy="3809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439640" y="43797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HEF OR C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25560" y="495288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an we see the chef working in a restaur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3040" y="36939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5791320"/>
            <a:ext cx="1019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90920" y="5791320"/>
            <a:ext cx="914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4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228600"/>
            <a:ext cx="49528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Dino Kids Stars Layout "/>
          <p:cNvPicPr/>
          <p:nvPr/>
        </p:nvPicPr>
        <p:blipFill>
          <a:blip r:embed="rId1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560" y="4343400"/>
            <a:ext cx="40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the barber works in a schoo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4419720" cy="2946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http://sasd.k12.pa.us/uploadedImages/MarzolfES/SchoolHouse.jpg"/>
          <p:cNvPicPr/>
          <p:nvPr/>
        </p:nvPicPr>
        <p:blipFill>
          <a:blip r:embed="rId3"/>
          <a:stretch/>
        </p:blipFill>
        <p:spPr>
          <a:xfrm>
            <a:off x="5334120" y="228600"/>
            <a:ext cx="4059000" cy="3522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1680" y="3276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5760" y="39625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5257800"/>
            <a:ext cx="1219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Y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971800" y="5257800"/>
            <a:ext cx="10666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2" descr="Dino Kids Stars Layout "/>
          <p:cNvPicPr/>
          <p:nvPr/>
        </p:nvPicPr>
        <p:blipFill>
          <a:blip r:embed="rId1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http://img0.liveinternet.ru/images/attach/b/3/10/374/10374145_Spongebob_happy.jpg"/>
          <p:cNvPicPr/>
          <p:nvPr/>
        </p:nvPicPr>
        <p:blipFill>
          <a:blip r:embed="rId2"/>
          <a:stretch/>
        </p:blipFill>
        <p:spPr>
          <a:xfrm>
            <a:off x="1828800" y="2057400"/>
            <a:ext cx="5083200" cy="3809880"/>
          </a:xfrm>
          <a:prstGeom prst="rect">
            <a:avLst/>
          </a:prstGeom>
          <a:ln w="0">
            <a:noFill/>
          </a:ln>
        </p:spPr>
      </p:pic>
      <p:pic>
        <p:nvPicPr>
          <p:cNvPr id="157" name="Rectangle 4" descr=""/>
          <p:cNvPicPr/>
          <p:nvPr/>
        </p:nvPicPr>
        <p:blipFill>
          <a:blip r:embed="rId3"/>
          <a:stretch/>
        </p:blipFill>
        <p:spPr>
          <a:xfrm>
            <a:off x="-6480" y="-182520"/>
            <a:ext cx="91569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ireman-costume-for-kids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609480"/>
            <a:ext cx="1525320" cy="32004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85800" y="41911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FIRE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718960" y="4952880"/>
            <a:ext cx="18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O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69960" y="4989600"/>
            <a:ext cx="43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Who do we call when we are sic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images.halloweencostumes.com/toddler-future-doctor-costume.jpg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105520" y="228600"/>
            <a:ext cx="30477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Qcmv08oQJNfHXLYLoNWctfdhcvjfbyaEREMToEIVGllMOfd6pr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1066680"/>
            <a:ext cx="3124080" cy="247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olice-kid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248520" y="304920"/>
            <a:ext cx="2554200" cy="5438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832760" y="3809880"/>
            <a:ext cx="16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D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248520" y="56386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POLICE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118520" y="460836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ho protects people from dang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istockphoto_3887397-carpenter-kid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685800" y="304920"/>
            <a:ext cx="2409840" cy="361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-!Baby%2520Farmer%2520Costume--22709041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257800" y="685800"/>
            <a:ext cx="2255760" cy="2819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71500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FAR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24960" y="426708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CARP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1254960" y="548640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ho builds our hou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27480" y="5334120"/>
            <a:ext cx="48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o do we call for when we have toothach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8080" y="0"/>
            <a:ext cx="3333960" cy="3179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82520" y="37339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D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800600" y="457200"/>
            <a:ext cx="4343400" cy="28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83040" y="369396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PI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03960" y="54100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at does a vet d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762120" y="0"/>
            <a:ext cx="2717640" cy="4267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495680" y="609480"/>
            <a:ext cx="4048200" cy="26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46840" y="38098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Help the sick gi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76200" y="43038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Help the sick 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5520" y="563868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What does a mail man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019920" y="1447920"/>
            <a:ext cx="28699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859000" y="4800600"/>
            <a:ext cx="316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Sending letters for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" y="1143000"/>
            <a:ext cx="3886200" cy="2585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47160" y="407520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Cooking food for the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Read the questions 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Click Yes if your answer to the question is yes. Click no if your answer to the question is 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Arial"/>
              </a:rPr>
              <a:t>Good luck! </a:t>
            </a:r>
            <a:r>
              <a:rPr b="0" lang="en-PH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2" descr="Dino Kids Stars Layout 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-657360"/>
            <a:ext cx="9753480" cy="7515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85800" y="228600"/>
            <a:ext cx="3122640" cy="327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3828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ASTRON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27160" y="5065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6960" y="4800600"/>
            <a:ext cx="44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Can we find the astronaut in outer spa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400" y="5638680"/>
            <a:ext cx="990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E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90920" y="5638680"/>
            <a:ext cx="761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6469200" y="37702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OUTER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410080" y="380880"/>
            <a:ext cx="37339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2:21:44Z</dcterms:created>
  <dc:creator>Jalyzza Kim B. Veloso</dc:creator>
  <dc:description/>
  <dc:language>en-US</dc:language>
  <cp:lastModifiedBy>Jalyzza Kim B. Veloso</cp:lastModifiedBy>
  <dcterms:modified xsi:type="dcterms:W3CDTF">2011-02-15T02:17:38Z</dcterms:modified>
  <cp:revision>9</cp:revision>
  <dc:subject/>
  <dc:title>Slide 1</dc:title>
</cp:coreProperties>
</file>